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34F-B469-4270-8EFE-2BF664E8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CE7-0A2B-474C-8167-5E40212E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673-56F0-432C-A12A-E5BD45A6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294-84E3-408B-B109-11D82A1F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EF4-02FE-4EAF-8B38-5FE58DC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70C-91A0-48B6-A302-1FE6CD7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D79-5706-4D33-8B46-D95291A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E55-0104-4318-9F95-24EFB4B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BAA-1766-46C4-946E-261A630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C4E-F3EB-4031-9119-89C3EE5B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CE9-0BB7-4A45-BE44-0747438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016-CF0C-4F3E-9203-4997F36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056-6E40-4652-AC09-88A07B7E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.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. 3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21337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ollowing into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all work is comple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checked on THUR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are finished early, take out a book to read or do homework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________ Clase 802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0 de may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7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e Examen: Capitulo 8 la proxima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.O: to continue the review for the Unit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ritura en silen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anish, write a paragraph about your favorite musician or musical group, tell why you like their music and what your favorite song by this musician or group is. (5 sentence 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2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5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TODAY’S CLASS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0948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21:29Z</dcterms:created>
  <dc:creator>Helen Zumaeta</dc:creator>
  <dc:description/>
  <dc:language>en-US</dc:language>
  <cp:lastModifiedBy>Helen Zumaeta</cp:lastModifiedBy>
  <cp:lastPrinted>2016-05-10T13:54:20Z</cp:lastPrinted>
  <dcterms:modified xsi:type="dcterms:W3CDTF">2016-05-10T13:56:03Z</dcterms:modified>
  <cp:revision>17</cp:revision>
  <dc:subject/>
  <dc:title>Me llamo________ Clase 8im La fecha es el 17 de enero del 2013</dc:title>
</cp:coreProperties>
</file>